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6E36-D0D3-46F6-8548-2101C8FD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FC1-FCE7-4B4A-809C-2E67E5BA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0C8-E8A2-4048-AA6A-CFFF66E9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DBF-E63C-48E1-8A14-EBFECEF8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012-A649-44A6-BF2B-BF2D64C3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9B80-AD0E-4807-99D1-9DC27B8A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F07-5239-4992-988B-025520F2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189-0805-4DEE-BC21-0B305D9E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75E-3BC0-4A33-90F4-CF48FA0B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FC6-5FD5-45D0-8C50-68424D7E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0E5-4423-433C-99CF-9BEC7C55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C58-357D-4AD3-804F-28FF36C1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5591-6B5A-42F8-81E8-5BF63F9CA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41400" y="2343960"/>
            <a:ext cx="11030040" cy="405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3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1.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О, Учителю небесни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посети ни в този час,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[: помогни с молби и песни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Теб да славим, милий Спас! :]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497880" y="3158640"/>
            <a:ext cx="101444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Твои ние чада да станем,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помогни ни Ти сега!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[: Дай такива да останем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тука и през вечността! 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53640" y="3229920"/>
            <a:ext cx="92563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3.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Твои агънца да бъдем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ние послушни всеки час,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[: както Ти бе на земята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Агне жертвено за нас! 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514800" y="3158640"/>
            <a:ext cx="101750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4.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О, Ти Пастирю небесни,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агънцата Си води!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[: Ще Ти пеем хвални песни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в рая, там ни заведи! 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6:17:50Z</dcterms:created>
  <dc:creator>TrifonTrifonow</dc:creator>
  <dc:description/>
  <dc:language>en-US</dc:language>
  <cp:lastModifiedBy>TrifonTrifonow</cp:lastModifiedBy>
  <dcterms:modified xsi:type="dcterms:W3CDTF">2005-10-20T16:51:21Z</dcterms:modified>
  <cp:revision>4</cp:revision>
  <dc:subject/>
  <dc:title>Slide 1</dc:title>
</cp:coreProperties>
</file>